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691-B8F7-4E11-9C01-3DAF6FE4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48D-D720-4D9A-AB8D-72FE76E3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223-3DDB-407D-814D-21448F6C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CEE-8F70-4FE0-A5B9-04BE9E98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F5A-C27E-4803-8B5E-6878D829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47D-0DB0-4EDF-8ABD-960F1031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CF02-D784-4376-A2B5-153803C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A6AB-75A0-40DB-AF44-8D8CC61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392-036C-4F33-B945-2B82492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854-ACF2-4140-A364-E254C15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0F19-592E-4C66-A2E0-5924670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890-D433-42C9-ABAF-AD93BE8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01FC-498E-462C-BE36-356F07E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D4E1-A753-4060-B470-CF22CD1E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16DB-BF3C-43A1-B3B3-09FF1FD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2BA-C6F9-4525-B1D8-E4A8F7A6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C53C-567B-4280-943E-ACE26A1B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EE1-508D-45AA-A81F-3CB266A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FDF-6335-4422-808E-B0F13C9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1CB-6617-41AE-88DF-F952793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772-323B-4513-B2D9-4867EB1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40C-9694-4449-82FF-3CF8070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17F-0111-4594-A9D5-1D0EEDE6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77F-BB5F-440B-92EE-631BA83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858D-E96B-4455-9B9D-93806D8B4FB8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7526-E947-4A85-BC66-50B64C69673C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 American Literature II - Unit 14 #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Explain how the title fits the story “The Jilting of Granny Weatherall” (3 parts)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lting - left at altar by George and at the end by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ny - she’s old and is a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all - she’s been through a lot of hard times (working, husband dying young, being left at the altar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Who wrote “A Rose for Emily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Faulk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What was the marriage between Alicia and Jordan lik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hat good - he never touched her, she thought the house was cold, he didn’t show much emotion or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What does Petit say about his poetry in “Petit the Poet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n’t very good - compares it to mites and s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hould have gone outside like Homer and Whitman - they wrote about the outdoors and were much more popular tha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What is the definition of epitap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s to remember a deceased loved on that used to go on tomb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What did Emily buy to make the townspeople think she would get marri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etries with the initials HB on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What were two things found in the “marriage room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r’s tarnished toiletry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r’s dead body on the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ay hair on the pillow next to H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it, tie, shirt, socks, and shoes laying right next to the bed like they were just taken off - except for the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y, faded curt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How does the name Butch Weldy fit his epitap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 w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Who wrote “The Jilting of Granny Weatherall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therine Anne Po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What is one thing Granny wanted to do before she di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the letters from George and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wine to a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How does Richard Bone feel about his job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n’t like it because people are writing false things on the tombstones - but he needs the money so he has to write what they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What are two reasons why the townspeople didn’t think Homer and Emily would dat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of two different economic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 from the South and he was from the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never dated before - why star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What does jilted mea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What is Katherine Anne Porter’s most famous 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ip of F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What are two ways Emily is stuck in the pas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give her dad’s body up for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s to talk to Colonel Satoris even though she should know he is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s to put mailbox numbers on her do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What are two reasons Granny doesn’t like the doct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too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 sicker before and no one came - double pneumonia and milk l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doesn’t think she is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What is the definition of stream of consciousnes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yle of writing that conveys the inner and sometimes chaotic workings of a character’s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What did Faulkner say was a microcosm for universal themes of time, passions of the heart, and destruction of wildernes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Why did the townspeople want Emily to pay her taxe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she’d be humanized - not be better than anyone else because of money any m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What were two ways the town tried to help save Emily’s reput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n’t make her pay taxes when they knew she didn’t have the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n’t tell her she smelled, just spread lime around to combat the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Mindi Spear</cp:lastModifiedBy>
  <dcterms:modified xsi:type="dcterms:W3CDTF">2008-03-11T21:36:36Z</dcterms:modified>
  <cp:revision>11</cp:revision>
  <dc:subject/>
  <dc:title>Twenty Questions </dc:title>
</cp:coreProperties>
</file>